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voyborg2.wav" ContentType="audio/x-wav"/>
  <Override PartName="/ppt/media/image22.png" ContentType="image/png"/>
  <Override PartName="/ppt/media/image1.png" ContentType="image/png"/>
  <Override PartName="/ppt/media/image26.jpeg" ContentType="image/jpeg"/>
  <Override PartName="/ppt/media/image20.wmf" ContentType="image/x-wmf"/>
  <Override PartName="/ppt/media/image19.png" ContentType="image/png"/>
  <Override PartName="/ppt/media/image21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25F2-2DCE-4F82-8AD8-5160C86F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1D8E-12E2-4D71-BE93-C7A65404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97AD-C943-4A2F-A087-2146C358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6BF-2B4E-4F2E-8983-55425BE6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B5B0-F629-4758-95FE-A5FE65EA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88DB-1507-45E1-95B6-4EECEC4F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5A4E-F4AA-408E-ACBA-195D804E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0E66-DD13-44A9-ABE5-0B047FCA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E940-1087-4761-A353-75B63959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1F1-EF86-472F-A0D7-23666EF6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A3A-DC97-4D33-8D27-7B08174D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29B-003D-4A06-A967-9D6EEFFC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ED3A-3257-45F7-8192-19077C547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ivelerock.espio.free.fr/ezines/tries/contenu.html" TargetMode="External"/><Relationship Id="rId2" Type="http://schemas.openxmlformats.org/officeDocument/2006/relationships/hyperlink" Target="http://vivelerock.espio.free.fr/ezines/tries/contenu.html" TargetMode="External"/><Relationship Id="rId3" Type="http://schemas.openxmlformats.org/officeDocument/2006/relationships/hyperlink" Target="http://vivelerock.espio.free.fr/ezines/tries/contenu.html" TargetMode="External"/><Relationship Id="rId4" Type="http://schemas.openxmlformats.org/officeDocument/2006/relationships/hyperlink" Target="http://vivelerock.espio.free.fr/ezines/tries/contenu.html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voyborg2.wav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ndkind.org/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87800" y="4800600"/>
            <a:ext cx="4156200" cy="232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0" y="0"/>
          <a:ext cx="9396360" cy="5194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9636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19320" y="2057400"/>
            <a:ext cx="723888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audrait pas attendre 11 mois avant   dle releaser celui la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oujours le seul eZine QC qui a de l’allure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(voir « 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french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ezine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»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eZ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19320" y="2057400"/>
            <a:ext cx="72388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ent principal au Québ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gnant l’année derni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ilité de participer en tant qu’organisateur pour l’édition à venir (radio31337,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Hackf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mp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Insèrer arbre sans les nicks (le faire dans w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4159440" cy="3391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9640" y="-67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556000" y="2421000"/>
            <a:ext cx="4014720" cy="3273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484360" y="-531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692360" y="-60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yborg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55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557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66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2057400"/>
            <a:ext cx="7238880" cy="37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ding : Wyze, SeriousMan, __2; design : __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ncore plus giga-powerful que l’au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Hosting </a:t>
            </a:r>
            <a:r>
              <a:rPr b="0" lang="fr-CA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indkind.org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job a Wyze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, DNS de blk_ice,  emails ETS (Last), mkdwebdev machine dédié fourni par Last hoster job à Wy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Site web affilié hack.fr… 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sit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541440" y="1844640"/>
            <a:ext cx="102967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j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13372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916280"/>
            <a:ext cx="76201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indkind Rally (chat/sour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 Kama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crypt v2 (enfin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 echel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(MMM) Maz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KEEP ALL INFO HERE SEMI-PRIV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1173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8964720" cy="1149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79280" y="4724280"/>
            <a:ext cx="896472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181400" cy="4959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11640" y="1773360"/>
            <a:ext cx="5229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893080" cy="489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6391440" cy="9623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411280" y="112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908000" y="0"/>
            <a:ext cx="5486400" cy="166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484360" y="1773360"/>
            <a:ext cx="4329360" cy="446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763640" y="1773360"/>
            <a:ext cx="5326200" cy="445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124000" y="2133720"/>
            <a:ext cx="5327640" cy="37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2916360" y="7101000"/>
            <a:ext cx="3246480" cy="345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763640" y="1989000"/>
            <a:ext cx="5686560" cy="417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9320" y="1523880"/>
            <a:ext cx="7238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utu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ckF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sites we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Running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1600200"/>
            <a:ext cx="7238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stablished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sector_x 1999- 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mindkind 2001 -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1er eZine mai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2ième sept. 2002, 3ième déc.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4ième déc.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5ième août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2057400"/>
            <a:ext cx="7238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Zine genre d’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Inflation des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Grosseur des eZ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B articles et auteurs pa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ailles des eZines (comparative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62000" y="0"/>
          <a:ext cx="91422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0"/>
                    <a:ext cx="91422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896000" y="3673440"/>
            <a:ext cx="42480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169920"/>
          <a:ext cx="10044000" cy="48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9920"/>
                    <a:ext cx="1004400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643280" y="4816440"/>
            <a:ext cx="38102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5060880"/>
            <a:ext cx="382428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539640" y="0"/>
          <a:ext cx="9144000" cy="5672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0"/>
                    <a:ext cx="914400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09480" y="0"/>
          <a:ext cx="7925040" cy="67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792504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38680" y="5697360"/>
            <a:ext cx="2595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22:24:08Z</dcterms:created>
  <dc:creator>LastCall_</dc:creator>
  <dc:description/>
  <dc:language>en-US</dc:language>
  <cp:lastModifiedBy>LastCall_</cp:lastModifiedBy>
  <dcterms:modified xsi:type="dcterms:W3CDTF">2004-11-06T02:10:03Z</dcterms:modified>
  <cp:revision>45</cp:revision>
  <dc:subject/>
  <dc:title>Présentation PowerPoint</dc:title>
</cp:coreProperties>
</file>